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70CCCE-3CA1-4BA1-9FEE-DBF7C92ABF1E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49D-BF94-4956-A75B-D0BB4F46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F07-558E-4A5B-A0C6-CF405C5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758-2326-43BA-9DA3-C569CAF8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EB7-BF40-4534-912F-A14E9BC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C811-7DE7-4090-A780-FA54A773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85E3-72F2-461A-8B0E-E62105AA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BEB3-4D74-4461-BB47-5F7925D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80B-4E57-46D6-BBA5-48A598FB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DA4-B845-40DE-B39E-5282B0B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0AA2-BC1B-48C0-9A50-4997EC0A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ECCF-CFB9-4845-94DE-6E72E7B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17B-5B10-4BA6-A69C-977E8B51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B4F3-B2BE-43E9-99C1-36CE24C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27A-F961-4F44-B0ED-2F88D34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5C90-21AA-4425-8A43-D41213E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630-C46F-45F1-A790-4E7BBF5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3F37-8F2E-4230-BB5F-87992F73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D34-DCB7-4024-8A04-0445D6C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47B-D8E5-4027-9B57-E483C101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4DE-7586-4BBF-A2B5-B43D853B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96D-AD3D-48E7-9C91-C4C6E46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561-93B0-4E2A-8748-4CAC9B9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2CD-F4C9-4D6A-B0A7-445E41C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282-689C-4F6C-BD82-881D2D7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B536-57ED-42BB-B456-BB46DAFD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95E-F409-4768-B495-4F3B0B6B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amazon.com/gp/product/images/0888782446/ref=dp_image_0/104-8852815-9966305?ie=UTF8&amp;n=283155&amp;s=books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결정론</a:t>
            </a:r>
            <a:endParaRPr b="1" lang="en-US" sz="48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602100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B"/>
              </a:rPr>
              <a:t>Currier &amp; Ives, “The Progress of the Century” (1876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6092640"/>
            <a:ext cx="7929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John Gast, “American Progress” (1872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7770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1483920"/>
            <a:ext cx="7929360" cy="2227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587664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B"/>
              </a:rPr>
              <a:t>Currier &amp; Ives, “Across the Continent Westward the Course” (1868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4360" y="811080"/>
            <a:ext cx="792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5805360"/>
            <a:ext cx="7929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Leydenfrost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의 그림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in “Science on March” (1952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78483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[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인간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사회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]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변형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만약 인간이 기술을 만드는 것과 무관하게 </a:t>
            </a:r>
            <a:br>
              <a:rPr sz="2600"/>
            </a:b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기술이 사회를 만든다면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dddddd"/>
                </a:solidFill>
                <a:latin typeface="산돌고딕B"/>
              </a:rPr>
              <a:t>인간 </a:t>
            </a:r>
            <a:r>
              <a:rPr b="1" lang="en-US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기술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사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과 무관하게 기술이 “의도치 않은 귀결”을 만들어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인간도 사회의 일부이므로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,</a:t>
            </a:r>
            <a:br>
              <a:rPr sz="2600"/>
            </a:b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유형 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1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의 관계는 더 진행되어 아래처럼 될 수 있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en-US" sz="2600" spc="-1" strike="noStrike">
                <a:solidFill>
                  <a:srgbClr val="dddddd"/>
                </a:solidFill>
                <a:latin typeface="산돌고딕B"/>
              </a:rPr>
              <a:t>(</a:t>
            </a:r>
            <a:r>
              <a:rPr b="1" lang="zh-CN" sz="2600" spc="-1" strike="noStrike">
                <a:solidFill>
                  <a:srgbClr val="dddddd"/>
                </a:solidFill>
                <a:latin typeface="산돌고딕B"/>
              </a:rPr>
              <a:t>인간 </a:t>
            </a:r>
            <a:r>
              <a:rPr b="1" lang="en-US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dddddd"/>
                </a:solidFill>
                <a:latin typeface="산돌고딕B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기술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[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인간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]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의 통제를 벗어난 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자율적 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의 주인이 된 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에 대한 비관적 인식의 출처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핵무기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DDT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동차 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도하지 않은 귀결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쉽게 통제되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핵무기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DDT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가 가져다 준 위험과 환경파괴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핵무기 억제노력의 실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석유 시스템의 강고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에 대한 비관적 견해의 등장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과 인간의 행복이 일치하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적 합리성”과 “시스템”에 대한 공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루이스 멈포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&l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계의 신화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g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“거대기계”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자크 엘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&l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사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g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“자율적 기술”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을 여전히 사회적 변화의 최전선에 위치시키고 있음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들도 “기술결정론자”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유형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기술결정론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“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자율적 기술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살아있는 기계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간은 그것의 부품이 되는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수많은 문학작품과 영화의 모티브가 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블레이드러너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드로이드가 인간의 감정을 가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콜로수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국방용 컴퓨터가 지능을 가짐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인간 지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매트릭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이로봇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텔스 …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131" name="" descr="Movie Poster Image for Colossus: The Forbin Project"/>
          <p:cNvPicPr/>
          <p:nvPr/>
        </p:nvPicPr>
        <p:blipFill>
          <a:blip r:embed="rId2"/>
          <a:stretch/>
        </p:blipFill>
        <p:spPr>
          <a:xfrm>
            <a:off x="2916360" y="3645000"/>
            <a:ext cx="1909800" cy="2836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19280" y="3645000"/>
            <a:ext cx="216216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ovie Poster Image for The Matrix"/>
          <p:cNvPicPr/>
          <p:nvPr/>
        </p:nvPicPr>
        <p:blipFill>
          <a:blip r:embed="rId4"/>
          <a:stretch/>
        </p:blipFill>
        <p:spPr>
          <a:xfrm>
            <a:off x="4861080" y="3716280"/>
            <a:ext cx="1757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 기계들을 보면 왠지 그런 생각이 들어 우리도 마찬가지로 이 기계들에 연결되어 있는 게 아닐까 하는 생각 말이야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네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지만 우리들은 이 기계들을 지배하잖아요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 기계들이 우릴 지배하는 게 아니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이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것들이 우릴 어떻게 지배하겠어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보 같은 생각이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지만 말이야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도대체 지배라는 게 뭘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네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우리가 원하면 이 기계들을 꺼버릴 수 있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 그렇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네가 정곡을 찔렀네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로 그게 지배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안 그래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우리가 원하기만 하면 이 기계들을 아주 박살을 낼 수 있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 그러고 나면 조명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난방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공기 등은 어떻게 해결할지 생각은 해봐야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다시 이에 대한 비판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dddddd"/>
                </a:solidFill>
                <a:latin typeface="산돌고딕B"/>
              </a:rPr>
              <a:t>인간</a:t>
            </a:r>
            <a:r>
              <a:rPr b="1" lang="ko-KR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도치 않은 귀결이라는 것은 무엇이나 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간이 분명히 기술을 만들어 내는 과정은 간과될 수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회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기술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기술의 사회적 형성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Social Shaping of Technology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기술의 사회적 구성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Social Construction of Technology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[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간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]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이 인간의 주인이 된다는 것은 환상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생명력을 가지는 것이 아니라 모멘텀을 가질 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이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보통 두 가지 논제의 결합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의 발전경로는 독자적으로 결정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29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사회와 또는 인간과 무관한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사회 변화의 독립 변수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은 사회를 변화시키거나 제약하는 원인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29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궁극적인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or 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가장 중요한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or 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상당히 중요한 원인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용어의 구분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강한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hard)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결정론 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: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다른 요소들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법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제도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문화 등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과 함께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사회를 특정한 방향으로 이끌어가는 “가능성” 제공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약한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soft)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결정론 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: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특정한 기술이 “필연적으로” 특정한 사회를 낳음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유명한 비판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사회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 기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기술의 사회적 형성론</a:t>
            </a:r>
            <a:endParaRPr b="1" lang="en-US" sz="25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사회적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이데올로기적 요소가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기술 디자인에 직접적인 영향 미침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로버트 모제스의 존스 비치 공원과 도로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&amp;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다리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(9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피트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기술의 사회적 구성론 </a:t>
            </a: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다음 시간에…</a:t>
            </a:r>
            <a:endParaRPr b="1" lang="en-US" sz="25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4248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대표적인 사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린 화이트 주니어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Lynn White Jr.)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등자 논제</a:t>
            </a:r>
            <a:br>
              <a:rPr sz="2600"/>
            </a:br>
            <a:r>
              <a:rPr b="1" i="1" lang="ko-KR" sz="2600" spc="-1" strike="noStrike">
                <a:solidFill>
                  <a:srgbClr val="000000"/>
                </a:solidFill>
                <a:latin typeface="산돌고딕B"/>
              </a:rPr>
              <a:t>Medieval Technology and Social Change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(1962)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등자의 도입이 중세 봉건제를 낳았다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등자의 도입은 “기마충격전투”의 기병을 양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크왕국의 궁재 샤를 마르텔이 교회의 재산을 몰수하여 이들에게 나누어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8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세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것이 영주가 중심 세력으로 부상한 중세 봉건제도의 시작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251080" cy="266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278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그 외의 사례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인쇄술 혁명이 르네상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종교개혁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과학혁명을 낳았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해럴드 이니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Harold Innis)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간 기반 매체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진흙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무겁고 옮기기 힘듦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적 확장 불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신성하고 도덕적인 힘 표현하는 데 용이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위계적인 사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 기반 매체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종이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옮기기 쉬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적 확장 용이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세속적이고 팽창적인 사회와 부합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정보혁명이 아래의 것들을 낳을 것이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is-intermedi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centr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spaci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massific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nation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is-aggreg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Empire and Communicatio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14972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에 대한 비판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스스로 “기술결정론자”라고 말하는 사람은 없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등자 논제에 대한 비판은 어떻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크왕국과 비슷한 시기에 등자를 도입한 나라 중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봉건제가 확립되지 않은 나라도 있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앵글로색슨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과 그 사회적 영향은 기술만이 아니라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회적 맥락에 따라서 달라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인쇄술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동양에서는 서양과 같은 “혁명”을 가져오지 않음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렇다면 기술은 “양날의 칼”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어떻게 사용하는지에 따라서 그 발전과 용도가 달라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러나 과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톨릭은 인쇄술을 완전히 자기편으로 만들 수 있었을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양날의 칼 논제에 대한 재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의 가치중립성 논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자체는 아무런 정치성이나 이념을 가지고 있지 않으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용하는 사람의 정치성이나 이념에 따라 기술이 이용된다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오용은 그것을 만든 엔지니어의 책임이 아니라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정치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/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업가와 같이 기술의 사용을 결정하는 사람의 책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비판 지점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디자인에 사회적 가치가 각인될 수 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로버트 모제스의 존스 비치 공원과 도로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다리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총이나 칼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원자폭탄으로 할 수 있는 일은 그리 많지 않음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과 디자인이 기술시스템의 일부가 되면 모멘텀 생김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따라서 특정한 기술은 변경되기도 다른 것을 선택하기 어려움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력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 시스템…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140360" y="2133720"/>
            <a:ext cx="42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에 대한 재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인간이 세상을 만든다”는 명제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인간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 세상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문제는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 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[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세상 </a:t>
            </a:r>
            <a:r>
              <a:rPr b="1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 인간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]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의 방향도 가능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인간은 자기 자신의 역사를 만든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그러나 자기 마음대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즉 자신이 선택한 상황하에서 만드는 것이 아니라 이미 존재하는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주어진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물려받은 상황하에서 만든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.” :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마르크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&lt;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루이 보나파르트와 브뤼메르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일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&gt;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인간 </a:t>
            </a:r>
            <a:r>
              <a:rPr b="0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 무엇 </a:t>
            </a:r>
            <a:r>
              <a:rPr b="0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 세상</a:t>
            </a:r>
            <a:br>
              <a:rPr sz="2300"/>
            </a:b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“무엇”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정치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법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경제체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관습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언어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상징 등 포함</a:t>
            </a:r>
            <a:br>
              <a:rPr sz="2300"/>
            </a:b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그리고 “기술”도 당연히 포함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따라서 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인간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 기술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 사회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는 자연스러운 생각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기술결정론에 담긴 기술과 진보관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세기 계몽주의자들의 기술과 진보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튀르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콩도르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랭클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제퍼슨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쇄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달된 통신 수송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기술이란 지식과 상품의 “순환 시스템”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미신의 타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진리의 확산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역사의 진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을 인간사회의 혁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진보를 위한 강력한 도구로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세기 현대사회의 진보와 기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철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기와 같은 복잡한 기술시스템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수많은 인공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진보의 수단에서 진보 그 자체로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효율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질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제어 등 기술의 가치들로 사회 영역 재구성 노력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기술관료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technocracy)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운동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사회공학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96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대 이에 대한 의심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비관적 인식 발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06T10:53:41Z</dcterms:modified>
  <cp:revision>323</cp:revision>
  <dc:subject/>
  <dc:title>중세 유럽의 과학</dc:title>
</cp:coreProperties>
</file>